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1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2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3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4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63760" y="3746520"/>
            <a:ext cx="3619800" cy="9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965160" y="3759120"/>
            <a:ext cx="3619440" cy="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435600" indent="-27108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12880" indent="-26964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1988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58508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19710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453960" indent="-28260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47080" indent="-28116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24920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65168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205416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1000"/>
          </a:bodyPr>
          <a:p>
            <a:pPr marL="3099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59292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88128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16964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4583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4360" indent="-2829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1" marL="89712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2" marL="129960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3" marL="170208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4" marL="210420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5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6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Upcoming MediaWiki goodie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(aka, Wikipedia takes over everything)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3" name=""/>
          <p:cNvSpPr/>
          <p:nvPr/>
        </p:nvSpPr>
        <p:spPr>
          <a:xfrm>
            <a:off x="6696000" y="6368760"/>
            <a:ext cx="301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MySQL Users Conference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Santa Clara, C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4" name=""/>
          <p:cNvSpPr/>
          <p:nvPr/>
        </p:nvSpPr>
        <p:spPr>
          <a:xfrm>
            <a:off x="4247280" y="6527520"/>
            <a:ext cx="163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pril 26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But it can be easy on the eye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ur proxy caches in Europe and Asia can serve read-only data to some visitors, some of the tim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marter proxy caches should be able to serve read-only data to everyone, transparently, if core servers are unreachabl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ith a DNS update on failover we could do this for North America too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186,000 miles per second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It’s not just a good idea, it’s the law!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ar on Latency: Network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Very fast for static, public page views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Geographically distributed caches reduce network latency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4444920" y="2882880"/>
            <a:ext cx="12700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7" name=""/>
          <p:cNvSpPr/>
          <p:nvPr/>
        </p:nvSpPr>
        <p:spPr>
          <a:xfrm>
            <a:off x="3997800" y="4218840"/>
            <a:ext cx="1555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Frankfur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8" name=""/>
          <p:cNvSpPr/>
          <p:nvPr/>
        </p:nvSpPr>
        <p:spPr>
          <a:xfrm>
            <a:off x="63360" y="5740560"/>
            <a:ext cx="1270080" cy="126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9" name=""/>
          <p:cNvSpPr/>
          <p:nvPr/>
        </p:nvSpPr>
        <p:spPr>
          <a:xfrm>
            <a:off x="1572120" y="6161760"/>
            <a:ext cx="1148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Tampa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0" name=""/>
          <p:cNvSpPr/>
          <p:nvPr/>
        </p:nvSpPr>
        <p:spPr>
          <a:xfrm>
            <a:off x="2730600" y="2044800"/>
            <a:ext cx="12700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1" name=""/>
          <p:cNvSpPr/>
          <p:nvPr/>
        </p:nvSpPr>
        <p:spPr>
          <a:xfrm>
            <a:off x="2388240" y="1500840"/>
            <a:ext cx="195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Amsterdam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2" name=""/>
          <p:cNvSpPr/>
          <p:nvPr/>
        </p:nvSpPr>
        <p:spPr>
          <a:xfrm>
            <a:off x="3216600" y="3596400"/>
            <a:ext cx="90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  <a:ea typeface="Gill Sans"/>
              </a:rPr>
              <a:t>15ms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3" name=""/>
          <p:cNvSpPr/>
          <p:nvPr/>
        </p:nvSpPr>
        <p:spPr>
          <a:xfrm>
            <a:off x="3390840" y="2933640"/>
            <a:ext cx="1320840" cy="812880"/>
          </a:xfrm>
          <a:prstGeom prst="line">
            <a:avLst/>
          </a:prstGeom>
          <a:ln w="25560">
            <a:solidFill>
              <a:srgbClr val="44422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4" name=""/>
          <p:cNvSpPr/>
          <p:nvPr/>
        </p:nvSpPr>
        <p:spPr>
          <a:xfrm>
            <a:off x="4403880" y="1742400"/>
            <a:ext cx="508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  <a:ea typeface="Gill Sans"/>
              </a:rPr>
              <a:t>Caching proxies are awesome!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ar on Latency: Network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Login cookie? Page changed since last view?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Requests now cross an ocean...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100-400ms of dead time, depending on continent.  Yuck!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4444920" y="2882880"/>
            <a:ext cx="12700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8" name=""/>
          <p:cNvSpPr/>
          <p:nvPr/>
        </p:nvSpPr>
        <p:spPr>
          <a:xfrm>
            <a:off x="3997800" y="4218840"/>
            <a:ext cx="1555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Frankfur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9" name=""/>
          <p:cNvSpPr/>
          <p:nvPr/>
        </p:nvSpPr>
        <p:spPr>
          <a:xfrm>
            <a:off x="63360" y="5740560"/>
            <a:ext cx="1270080" cy="126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0" name=""/>
          <p:cNvSpPr/>
          <p:nvPr/>
        </p:nvSpPr>
        <p:spPr>
          <a:xfrm>
            <a:off x="1572120" y="6161760"/>
            <a:ext cx="1148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Tampa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1" name=""/>
          <p:cNvSpPr/>
          <p:nvPr/>
        </p:nvSpPr>
        <p:spPr>
          <a:xfrm>
            <a:off x="2730600" y="2044800"/>
            <a:ext cx="12700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2" name=""/>
          <p:cNvSpPr/>
          <p:nvPr/>
        </p:nvSpPr>
        <p:spPr>
          <a:xfrm>
            <a:off x="2388240" y="1500840"/>
            <a:ext cx="195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92ad"/>
                </a:solidFill>
                <a:latin typeface="Gill Sans"/>
                <a:ea typeface="Gill Sans"/>
              </a:rPr>
              <a:t>Amsterdam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3" name=""/>
          <p:cNvSpPr/>
          <p:nvPr/>
        </p:nvSpPr>
        <p:spPr>
          <a:xfrm>
            <a:off x="3216600" y="3596400"/>
            <a:ext cx="90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  <a:ea typeface="Gill Sans"/>
              </a:rPr>
              <a:t>15ms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4" name=""/>
          <p:cNvSpPr/>
          <p:nvPr/>
        </p:nvSpPr>
        <p:spPr>
          <a:xfrm>
            <a:off x="3390840" y="2933640"/>
            <a:ext cx="1320840" cy="812880"/>
          </a:xfrm>
          <a:prstGeom prst="line">
            <a:avLst/>
          </a:prstGeom>
          <a:ln w="25560">
            <a:solidFill>
              <a:srgbClr val="44422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85800" y="3033720"/>
            <a:ext cx="2627280" cy="3392640"/>
          </a:xfrm>
          <a:prstGeom prst="line">
            <a:avLst/>
          </a:prstGeom>
          <a:ln w="25560">
            <a:solidFill>
              <a:srgbClr val="44422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6" name=""/>
          <p:cNvSpPr/>
          <p:nvPr/>
        </p:nvSpPr>
        <p:spPr>
          <a:xfrm>
            <a:off x="1095840" y="4091760"/>
            <a:ext cx="90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  <a:ea typeface="Gill Sans"/>
              </a:rPr>
              <a:t>90ms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7" name=""/>
          <p:cNvSpPr/>
          <p:nvPr/>
        </p:nvSpPr>
        <p:spPr>
          <a:xfrm>
            <a:off x="4979160" y="1742400"/>
            <a:ext cx="4011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  <a:ea typeface="Gill Sans"/>
              </a:rPr>
              <a:t>BUT proxies are dumb...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Vertical partitioning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Low-latency access to local read-only database slaves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ransparently pass write operations up the chain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Provides read-only view if core servers unreachable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5511960" y="3181320"/>
            <a:ext cx="43052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32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73d"/>
                </a:solidFill>
                <a:latin typeface="Gill Sans"/>
                <a:ea typeface="Gill Sans"/>
              </a:rPr>
              <a:t>BUT...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1332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  <a:ea typeface="Gill Sans"/>
              </a:rPr>
              <a:t>Freakin’ hard to do right.</a:t>
            </a:r>
            <a:endParaRPr b="0" lang="en-US" sz="2400" spc="-1" strike="noStrike">
              <a:solidFill>
                <a:srgbClr val="44422c"/>
              </a:solidFill>
              <a:latin typeface="Hoefler Text"/>
            </a:endParaRPr>
          </a:p>
          <a:p>
            <a:pPr marL="1332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  <a:ea typeface="Gill Sans"/>
              </a:rPr>
              <a:t>Internal caches need to be kept properly in sync too...</a:t>
            </a:r>
            <a:endParaRPr b="0" lang="en-US" sz="2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Aggressive AJAX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Run most user login / customization through JavaScrip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marL="487440" indent="-26352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Keep most real data in cache-friendly static responses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5511960" y="3181320"/>
            <a:ext cx="54608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32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73d"/>
                </a:solidFill>
                <a:latin typeface="Gill Sans"/>
                <a:ea typeface="Gill Sans"/>
              </a:rPr>
              <a:t>BUT...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1332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  <a:ea typeface="Gill Sans"/>
              </a:rPr>
              <a:t>Harms accessibility</a:t>
            </a:r>
            <a:endParaRPr b="0" lang="en-US" sz="2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ither way, keep working on improving code modularit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hich helps with an integrated services API too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239280" y="1615320"/>
            <a:ext cx="3681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1a173d"/>
                </a:solidFill>
                <a:latin typeface="Gill Sans"/>
                <a:ea typeface="Gill Sans"/>
              </a:rPr>
              <a:t>?&gt;</a:t>
            </a:r>
            <a:endParaRPr b="0" lang="en-US" sz="28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6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7" name=""/>
          <p:cNvSpPr/>
          <p:nvPr/>
        </p:nvSpPr>
        <p:spPr>
          <a:xfrm>
            <a:off x="6696000" y="6368760"/>
            <a:ext cx="301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MySQL Users Conference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Santa Clara, C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8" name=""/>
          <p:cNvSpPr/>
          <p:nvPr/>
        </p:nvSpPr>
        <p:spPr>
          <a:xfrm>
            <a:off x="4247280" y="6527520"/>
            <a:ext cx="163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pril 26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468720" indent="0">
              <a:lnSpc>
                <a:spcPct val="100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ontinuous integration: code is always ready to run Wikipedia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witched CVS -&gt; Subversion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asier branch management for work on big chang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Quarterly releases of MediaWiki: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1.6 - April 2006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1.7 - July 2006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1.8? - October 2006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here do we go from here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hare the love!</a:t>
            </a:r>
            <a:br>
              <a:rPr sz="2800"/>
            </a:br>
            <a:r>
              <a:rPr b="0" lang="en-US" sz="2800" spc="-1" strike="noStrike">
                <a:solidFill>
                  <a:srgbClr val="8c92ad"/>
                </a:solidFill>
                <a:latin typeface="Gill Sans"/>
              </a:rPr>
              <a:t>You know, all that Web 2.0 crap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ke it work!</a:t>
            </a:r>
            <a:br>
              <a:rPr sz="2800"/>
            </a:br>
            <a:r>
              <a:rPr b="0" lang="en-US" sz="2800" spc="-1" strike="noStrike">
                <a:solidFill>
                  <a:srgbClr val="8c92ad"/>
                </a:solidFill>
                <a:latin typeface="Gill Sans"/>
              </a:rPr>
              <a:t>Friendlier failure mod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ke it fast!</a:t>
            </a:r>
            <a:br>
              <a:rPr sz="2800"/>
            </a:br>
            <a:r>
              <a:rPr b="0" lang="en-US" sz="2800" spc="-1" strike="noStrike">
                <a:solidFill>
                  <a:srgbClr val="8c92ad"/>
                </a:solidFill>
                <a:latin typeface="Gill Sans"/>
              </a:rPr>
              <a:t>Avoid click-n-wai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Integration and Outreach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Beta bubble buzzword bingo!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Identity is thef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gning up for accounts everywhere sucks!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ikipedia and its sister projects to merge user accounts soo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penID,  Yadis etc will allow consistent identity on wikis and blogs run by different operator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eb services API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creen-scraping suck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ny fun uses for querying data from Wikipedia, Wiktionary, or Wikimedia Common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urrent work targeting maintenance tools, but content is coming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Put the Media in MediaWiki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ikimedia Commons stores photos, sound, and video clips for Wikipedia &amp; friend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GNU FDL, Creative Commons, Public Domai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lanning a handy service for remote use in off-site wikis and blogs etc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(Psst... maybe steal flickr’s API?)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Failing gracefully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On our budget, two nines sound pretty good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Some failures are hard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eteor strik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Nuclear wa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laky circuit breaker between the UPS and all your machin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